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AC0-11D1-4117-85DD-08E6DC9C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FC2-CE17-4C17-964A-5D54349A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9E7-F283-4240-90DA-774B9BDA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F1F-AC0B-45D7-A906-9CBECCA0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3B2-3B64-40F8-82B9-0177F044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F35-E17B-4EAD-8EC2-727D330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6FE1-967F-4CCE-9419-C9C3875D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49AD-97BD-4D6C-BF16-0C444054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9C57-3ECA-4E16-9776-ACF16A6B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4AE-2A26-4A64-BCC4-D3C21D4F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CAB4-0F48-42C8-A0F9-7A235366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EE5C-5309-4F4F-882F-35E0B6D0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36C4-7483-496A-8FCD-DC8A3205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D0AA-D0D1-41D3-A603-8A01CB9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B3EC-DB25-4DBA-BB32-95B49163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9A43-7AE5-49FE-BB21-7FBC6778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03B8-8167-4375-82B9-4987EABD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AB21-989D-4904-9F25-147288B0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672B-3E6A-409B-992B-4FDD3A6D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307B-099C-4575-98EB-528EFC54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D75-921C-407F-9B27-E319EA4D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3E94E-936A-4A40-AD5A-2240D459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171B-4AF3-483D-A0BB-4F95C08E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13D5-5467-46DD-90B9-AD021313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AE3B-8CAF-4574-8B25-91B2AAEB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B2B2-1FC7-4716-B1CD-974DB4D6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A53E-CDF2-4D16-8699-3E239D58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A9EC-A317-4BE9-96BD-D0C7119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3201-AEFE-4E30-BC8B-A410866C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5542-D794-48EB-A850-B003E1E0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48B6-1A32-41D0-BC15-FB11B6EF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7A0-CA58-4262-AEA1-A4537A09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7583-67AF-4DCB-9285-8EE049B6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0A747-DA89-40F4-AE1D-A55CF537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C5A8-4569-410A-8BC5-6019F6F0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CD20-614D-4F5B-ADA7-8AEA5016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D1C9F-BD49-481D-928B-737D6BAD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87AE-2B81-462A-B3DB-58B97846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181C-4903-4849-83AA-4B5CC8BE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5D55-4913-4CAC-97B2-6DDAC806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AFA10-6372-48FD-A208-2FB8DB93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1C52-E17E-4508-97E8-F00E307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983-64A6-4C20-91D6-EDB1E75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BC5E-8A85-4FAB-ABBD-303486D6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80CD-E8EE-4618-AB2E-0E7B0BE9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7A35D-FA2D-4620-B65B-A8677D1D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64E-64E1-4D33-9FDE-5EF46672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706-CDC7-4675-BE17-2621C366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B8B7F57-4A59-41C2-A191-69286D1C396B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5E23F5E-7C7F-449A-A767-CFFA957A524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4958EB5-6AD5-48C7-924B-FF3006273E6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B7DE9EF-FD83-47DC-A622-875BD483E62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mień objawy ataku padaczki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8000"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p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ślinoto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drgawk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drętwienie ciał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zczękościs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utrata kontroli nad zwieraczam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iepamięć wsteczn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enność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2:1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